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9953-FC27-493B-87BC-74F80629B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ED35-A9FB-4AD6-B935-53E0512A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C849-67D2-4752-A551-87BE21231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5AD2-C94C-4F30-948E-31EF53F0B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AED9-0BDD-4A21-802F-AC53232C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C3BD-6351-4911-8B7B-357EF283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C9E6-557D-4641-B1F9-091919AC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7F93-E359-4089-AE38-86826CCF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0C03-C672-42CD-86FB-39E86423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B436-6225-41DF-A3FA-42732486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7379-BAB6-4B3A-8A34-4726DBAA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F7B6-8971-4B36-8787-6C925F50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7520"/>
            <a:ext cx="11430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25D0-2813-4984-A3B5-E493161A8DED}" type="datetime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76520" y="6527520"/>
            <a:ext cx="457200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520"/>
            <a:ext cx="9144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Slide #: </a:t>
            </a:r>
            <a:fld id="{3A9C5AE9-BFF2-429D-805E-C94D31DAA2F3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FABRIC</a:t>
            </a:r>
            <a:br>
              <a:rPr sz="4000"/>
            </a:b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Next 18 month forward look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ib van Langevelde, J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5105520"/>
            <a:ext cx="4419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EXPReS is made possible through the support of the European Commission (DG-INFSO), Sixth  Framework Programme, Contract #02664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Personnel issu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ous delays in making new h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partners follow AC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ble delay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 work at JB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 identified, not too many dependencies y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tronomical side of correlator work at J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d order of work-packages, seems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engineering work at OSO uncl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with iBOB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time” FABRIC coordin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addressed when JIVE director position cl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sible for overall design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term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2AC2-7DA0-48D4-A4ED-C6B2EC2A8E1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38CF3B-E5AE-4FF1-AE62-22A00ED9F7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echnical issu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decision on data acquisition plat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made, not that much delay, design docs deliv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ivery of iBOB’s, Xilinx chips,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ntroduces a 4 – 5 month gap in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tunately no idle personnel y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still need to climb learning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description of OSO and LOFAR part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of distributed correl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d a good deal of inte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delayed JIVE design document somew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set by good progress on correlato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term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2507-2721-484F-A0F1-0B86B049058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8AAED8-3127-478B-B096-B6630BFC7AE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Work plan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remain largely the 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ed out the revised ti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milestones shift, one is split in two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nding will ramp up a bit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most all hires comp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the ones on matching local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-doc for JBO protocol work ident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testing may fall outside 3 year 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monitor over next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all design document by FABRIC 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be addressed by team ef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term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F095-7E52-4509-B9DE-37565B4E04A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912CDA-D0D0-4D14-BC2D-C1303BB230C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763120" cy="66438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724280" y="304920"/>
            <a:ext cx="0" cy="63244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term revie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5DAA-EA30-414B-9874-314F1DAEEC48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9A445D-C432-4FF8-A3A7-5A949E43F78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673884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038480" y="304920"/>
            <a:ext cx="0" cy="6019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term revie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810A-DAB4-4860-B2E7-277C89DF2EDF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428135-DB1B-485C-B7F1-2837B069586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228600" y="228600"/>
          <a:ext cx="8686800" cy="6540480"/>
        </p:xfrm>
        <a:graphic>
          <a:graphicData uri="http://schemas.openxmlformats.org/drawingml/2006/table">
            <a:tbl>
              <a:tblPr/>
              <a:tblGrid>
                <a:gridCol w="1171440"/>
                <a:gridCol w="3019680"/>
                <a:gridCol w="833400"/>
                <a:gridCol w="761760"/>
                <a:gridCol w="762120"/>
                <a:gridCol w="885960"/>
                <a:gridCol w="1252440"/>
              </a:tblGrid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igi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vi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onsi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J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 acquisition requirements docu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J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tocols strategic docu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B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J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sualization softw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ftw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J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relator design specif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J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verall design docu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J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LBI-Grid design docu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NS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J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LBI fringes PC-EV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J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FAR connection strategic docu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TR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J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 acquisition design docu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J1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LBI-Grid interface docu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NS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J1.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tocols performance re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B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J1.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ftware correlator 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ftw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J1.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ftware data produ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ftw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J1.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 acquisition interface docu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J1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FAR station interface re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TR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J1.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ftware for workflow man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ftw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NS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term revie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744B-CC09-4B67-B61C-C77219535E71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396DCF-8C5C-41B5-993F-DCB700C694E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cyun</cp:lastModifiedBy>
  <dcterms:modified xsi:type="dcterms:W3CDTF">2007-04-16T09:55:16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